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5.jpeg" ContentType="image/jpeg"/>
  <Override PartName="/ppt/media/image18.wmf" ContentType="image/x-wmf"/>
  <Override PartName="/ppt/media/image20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6.wmf" ContentType="image/x-wmf"/>
  <Override PartName="/ppt/media/image8.png" ContentType="image/png"/>
  <Override PartName="/ppt/media/image6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14.jpeg" ContentType="image/jpeg"/>
  <Override PartName="/ppt/media/image15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4.png" ContentType="image/png"/>
  <Override PartName="/ppt/media/image26.png" ContentType="image/png"/>
  <Override PartName="/ppt/media/image30.wmf" ContentType="image/x-wmf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nl-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nl-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nl-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F3818C-84E8-4812-8953-C9E1B6EA3391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84DFAC-52AA-4D58-8056-15614DD9FE1E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9560" cy="384048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1182600" y="4861080"/>
            <a:ext cx="473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07397D-923F-4C0E-9701-A712B2BB4879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9560" cy="384048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182600" y="4861080"/>
            <a:ext cx="473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0C9C0B-F1BD-49C7-94DA-943EE3B82CC1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9560" cy="38404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1182600" y="4861080"/>
            <a:ext cx="473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AC4F24-99A4-41E0-B494-8A306DE7D653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9560" cy="384048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1182600" y="4861080"/>
            <a:ext cx="473256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540-70E9-467D-AE1B-BF2E7EF2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4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837E-0C7E-4C16-A81B-C934CBB7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EDF-AB19-4D4F-8DDA-8C3B1400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997-5BCB-4417-A982-F7D02EBD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F19-4255-47E6-8315-49B8F23F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1F0-8242-4E1E-8CE8-C686EB5D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C60-2ABB-4CE3-B579-4094C112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5A0-302C-4ABA-BEF5-104715D6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F76-F56B-438B-953C-7FC0493B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97F-73AC-42E2-8694-CF97BEE1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0E6-E47B-4E4A-9124-C2F85B7B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4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497-219B-4E19-AAA7-882EE8C2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2E2C-3758-495D-AA9D-4253BB7410C5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19280" y="2349360"/>
            <a:ext cx="504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thematics of G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 IV: Blow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6101" t="9707" r="19493" b="3086"/>
          <a:stretch/>
        </p:blipFill>
        <p:spPr>
          <a:xfrm>
            <a:off x="5400720" y="1233360"/>
            <a:ext cx="3600360" cy="475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50920" y="443700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b Mattheij, Hans Groot, Christina Giannop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DA6-16E5-4003-A1AB-6EB5F1DA9C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1400040" y="2236680"/>
            <a:ext cx="5616360" cy="3649680"/>
            <a:chOff x="1400040" y="2236680"/>
            <a:chExt cx="5616360" cy="3649680"/>
          </a:xfrm>
        </p:grpSpPr>
        <p:sp>
          <p:nvSpPr>
            <p:cNvPr id="158" name=""/>
            <p:cNvSpPr/>
            <p:nvPr/>
          </p:nvSpPr>
          <p:spPr>
            <a:xfrm>
              <a:off x="1454040" y="494676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54040" y="494676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03280" y="577692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71680" y="494676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71680" y="494676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89320" y="494676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89320" y="494676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06960" y="4946760"/>
              <a:ext cx="91908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06960" y="4946760"/>
              <a:ext cx="91908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26040" y="494676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26040" y="494676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54040" y="4062240"/>
              <a:ext cx="9176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54040" y="4062240"/>
              <a:ext cx="9176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71680" y="4062240"/>
              <a:ext cx="9176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71680" y="4062240"/>
              <a:ext cx="9176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89320" y="4062240"/>
              <a:ext cx="9176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89320" y="4062240"/>
              <a:ext cx="9176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06960" y="4062240"/>
              <a:ext cx="9190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06960" y="4062240"/>
              <a:ext cx="9190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26040" y="4062240"/>
              <a:ext cx="9176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26040" y="4062240"/>
              <a:ext cx="9176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54040" y="3176640"/>
              <a:ext cx="91764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54040" y="3176640"/>
              <a:ext cx="91764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71680" y="3176640"/>
              <a:ext cx="91764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71680" y="3176640"/>
              <a:ext cx="91764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89320" y="3176640"/>
              <a:ext cx="91764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89320" y="3176640"/>
              <a:ext cx="91764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06960" y="3176640"/>
              <a:ext cx="91908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6960" y="3176640"/>
              <a:ext cx="91908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26040" y="3176640"/>
              <a:ext cx="91764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26040" y="3176640"/>
              <a:ext cx="91764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54040" y="2292120"/>
              <a:ext cx="9176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54040" y="2292120"/>
              <a:ext cx="9176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71680" y="2292120"/>
              <a:ext cx="9176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1680" y="2292120"/>
              <a:ext cx="9176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89320" y="2292120"/>
              <a:ext cx="9176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89320" y="2292120"/>
              <a:ext cx="9176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06960" y="2292120"/>
              <a:ext cx="9190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6960" y="2292120"/>
              <a:ext cx="9190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26040" y="2292120"/>
              <a:ext cx="9176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26040" y="2292120"/>
              <a:ext cx="9176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19120" y="577692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36760" y="577692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54400" y="5776920"/>
              <a:ext cx="10656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72040" y="5776920"/>
              <a:ext cx="10620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00040" y="4890960"/>
              <a:ext cx="1065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19120" y="4890960"/>
              <a:ext cx="1047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36760" y="4890960"/>
              <a:ext cx="1047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4400" y="4890960"/>
              <a:ext cx="1065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72040" y="4890960"/>
              <a:ext cx="10620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0040" y="4006800"/>
              <a:ext cx="10656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19120" y="400680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36760" y="400680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54400" y="4006800"/>
              <a:ext cx="1065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72040" y="4006800"/>
              <a:ext cx="10620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00040" y="3120840"/>
              <a:ext cx="10656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19120" y="3120840"/>
              <a:ext cx="10476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36760" y="3120840"/>
              <a:ext cx="1047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54400" y="3120840"/>
              <a:ext cx="1065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72040" y="3120840"/>
              <a:ext cx="10620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3280" y="2236680"/>
              <a:ext cx="10476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19120" y="2236680"/>
              <a:ext cx="10476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36760" y="223668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54400" y="2236680"/>
              <a:ext cx="1065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72040" y="2236680"/>
              <a:ext cx="10620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54040" y="2292120"/>
              <a:ext cx="2114640" cy="3318120"/>
            </a:xfrm>
            <a:custGeom>
              <a:avLst/>
              <a:gdLst/>
              <a:ahLst/>
              <a:rect l="l" t="t" r="r" b="b"/>
              <a:pathLst>
                <a:path w="1496" h="1633">
                  <a:moveTo>
                    <a:pt x="0" y="1633"/>
                  </a:moveTo>
                  <a:cubicBezTo>
                    <a:pt x="487" y="1610"/>
                    <a:pt x="975" y="1587"/>
                    <a:pt x="1224" y="1315"/>
                  </a:cubicBezTo>
                  <a:cubicBezTo>
                    <a:pt x="1473" y="1043"/>
                    <a:pt x="1451" y="219"/>
                    <a:pt x="1496" y="0"/>
                  </a:cubicBezTo>
                </a:path>
              </a:pathLst>
            </a:custGeom>
            <a:noFill/>
            <a:ln w="28440">
              <a:solidFill>
                <a:srgbClr val="ff6600">
                  <a:alpha val="6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91120" y="5776920"/>
              <a:ext cx="10476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91120" y="4890960"/>
              <a:ext cx="10476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91120" y="4006800"/>
              <a:ext cx="10476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91120" y="3120840"/>
              <a:ext cx="10476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91120" y="2236680"/>
              <a:ext cx="10476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6045120" y="2236680"/>
              <a:ext cx="971280" cy="3649320"/>
              <a:chOff x="6045120" y="2236680"/>
              <a:chExt cx="971280" cy="3649320"/>
            </a:xfrm>
          </p:grpSpPr>
          <p:sp>
            <p:nvSpPr>
              <p:cNvPr id="230" name=""/>
              <p:cNvSpPr/>
              <p:nvPr/>
            </p:nvSpPr>
            <p:spPr>
              <a:xfrm>
                <a:off x="6045120" y="4946400"/>
                <a:ext cx="918000" cy="884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045120" y="4946400"/>
                <a:ext cx="918000" cy="88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45120" y="4061160"/>
                <a:ext cx="918000" cy="884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45120" y="4061160"/>
                <a:ext cx="918000" cy="88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45120" y="3176280"/>
                <a:ext cx="918000" cy="884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045120" y="3176280"/>
                <a:ext cx="918000" cy="88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045120" y="2291760"/>
                <a:ext cx="918000" cy="884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045120" y="2291760"/>
                <a:ext cx="918000" cy="88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910920" y="5776200"/>
                <a:ext cx="105480" cy="10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910920" y="4890960"/>
                <a:ext cx="105480" cy="10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10920" y="4006440"/>
                <a:ext cx="105480" cy="10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910920" y="3121560"/>
                <a:ext cx="105480" cy="10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910920" y="2236680"/>
                <a:ext cx="105480" cy="10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42560" y="1360440"/>
            <a:ext cx="7921800" cy="15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mate nodes: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 value by as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dentified node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yet consid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589040" y="1490760"/>
            <a:ext cx="157320" cy="144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89040" y="1835280"/>
            <a:ext cx="1573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4857840"/>
            <a:ext cx="1062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525920"/>
            <a:ext cx="12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2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92360" y="550800"/>
            <a:ext cx="6264360" cy="722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-initialisation by FMM Algorithm 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284-258E-4090-B32F-4E0304C322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1403280" y="2347920"/>
            <a:ext cx="5616360" cy="3649320"/>
            <a:chOff x="1403280" y="2347920"/>
            <a:chExt cx="5616360" cy="3649320"/>
          </a:xfrm>
        </p:grpSpPr>
        <p:sp>
          <p:nvSpPr>
            <p:cNvPr id="250" name=""/>
            <p:cNvSpPr/>
            <p:nvPr/>
          </p:nvSpPr>
          <p:spPr>
            <a:xfrm>
              <a:off x="1456560" y="5057280"/>
              <a:ext cx="917280" cy="88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56560" y="5057280"/>
              <a:ext cx="917280" cy="88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5800" y="5887440"/>
              <a:ext cx="10512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73840" y="5057280"/>
              <a:ext cx="918360" cy="88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73840" y="5057280"/>
              <a:ext cx="918360" cy="88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92560" y="5057280"/>
              <a:ext cx="917280" cy="88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92560" y="5057280"/>
              <a:ext cx="917280" cy="88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09840" y="5057280"/>
              <a:ext cx="918720" cy="88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09840" y="5057280"/>
              <a:ext cx="918720" cy="88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28920" y="5057280"/>
              <a:ext cx="917280" cy="88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28920" y="5057280"/>
              <a:ext cx="917280" cy="88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56560" y="4172760"/>
              <a:ext cx="9172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56560" y="4172760"/>
              <a:ext cx="9172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73840" y="4172760"/>
              <a:ext cx="91836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73840" y="4172760"/>
              <a:ext cx="91836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92560" y="4172760"/>
              <a:ext cx="9172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92560" y="4172760"/>
              <a:ext cx="9172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09840" y="4172760"/>
              <a:ext cx="91872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09840" y="4172760"/>
              <a:ext cx="91872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28920" y="4172760"/>
              <a:ext cx="9172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28920" y="4172760"/>
              <a:ext cx="9172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56560" y="3287520"/>
              <a:ext cx="917280" cy="88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56560" y="3287520"/>
              <a:ext cx="917280" cy="88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73840" y="3287520"/>
              <a:ext cx="918360" cy="88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73840" y="3287520"/>
              <a:ext cx="918360" cy="88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92560" y="3287520"/>
              <a:ext cx="917280" cy="88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92560" y="3287520"/>
              <a:ext cx="917280" cy="88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09840" y="3287520"/>
              <a:ext cx="918720" cy="88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09840" y="3287520"/>
              <a:ext cx="918720" cy="88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28920" y="3287520"/>
              <a:ext cx="917280" cy="88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28920" y="3287520"/>
              <a:ext cx="917280" cy="88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56560" y="2402640"/>
              <a:ext cx="9172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56560" y="2402640"/>
              <a:ext cx="9172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73840" y="2402640"/>
              <a:ext cx="91836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73840" y="2402640"/>
              <a:ext cx="91836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92560" y="2402640"/>
              <a:ext cx="9172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92560" y="2402640"/>
              <a:ext cx="9172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09840" y="2402640"/>
              <a:ext cx="91872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09840" y="2402640"/>
              <a:ext cx="91872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28920" y="2402640"/>
              <a:ext cx="9172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28920" y="2402640"/>
              <a:ext cx="9172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21640" y="5887440"/>
              <a:ext cx="1054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38920" y="5887440"/>
              <a:ext cx="1054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58000" y="5887440"/>
              <a:ext cx="10512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75280" y="5887440"/>
              <a:ext cx="10548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03280" y="5002560"/>
              <a:ext cx="10512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21640" y="5002560"/>
              <a:ext cx="1054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38920" y="5002560"/>
              <a:ext cx="1054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58000" y="5002560"/>
              <a:ext cx="10512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75280" y="5002560"/>
              <a:ext cx="10548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03280" y="4117320"/>
              <a:ext cx="10512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21640" y="4117320"/>
              <a:ext cx="1054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38920" y="4117320"/>
              <a:ext cx="1054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58000" y="4117320"/>
              <a:ext cx="10512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75280" y="4117320"/>
              <a:ext cx="10548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03280" y="3232440"/>
              <a:ext cx="10512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21640" y="3232440"/>
              <a:ext cx="10548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38920" y="3232440"/>
              <a:ext cx="1054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58000" y="3232440"/>
              <a:ext cx="10512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75280" y="3232440"/>
              <a:ext cx="10548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05800" y="2347920"/>
              <a:ext cx="10512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21640" y="2347920"/>
              <a:ext cx="10548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38920" y="2347920"/>
              <a:ext cx="1054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58000" y="2347920"/>
              <a:ext cx="10512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5280" y="2347920"/>
              <a:ext cx="10548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6560" y="2402640"/>
              <a:ext cx="2115720" cy="3318120"/>
            </a:xfrm>
            <a:custGeom>
              <a:avLst/>
              <a:gdLst/>
              <a:ahLst/>
              <a:rect l="l" t="t" r="r" b="b"/>
              <a:pathLst>
                <a:path w="1496" h="1633">
                  <a:moveTo>
                    <a:pt x="0" y="1633"/>
                  </a:moveTo>
                  <a:cubicBezTo>
                    <a:pt x="487" y="1610"/>
                    <a:pt x="975" y="1587"/>
                    <a:pt x="1224" y="1315"/>
                  </a:cubicBezTo>
                  <a:cubicBezTo>
                    <a:pt x="1473" y="1043"/>
                    <a:pt x="1451" y="219"/>
                    <a:pt x="1496" y="0"/>
                  </a:cubicBezTo>
                </a:path>
              </a:pathLst>
            </a:custGeom>
            <a:noFill/>
            <a:ln w="28440">
              <a:solidFill>
                <a:srgbClr val="ff6600">
                  <a:alpha val="6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94360" y="5887440"/>
              <a:ext cx="10512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94360" y="5002560"/>
              <a:ext cx="10512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94360" y="4117320"/>
              <a:ext cx="10512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94360" y="3232440"/>
              <a:ext cx="10512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94360" y="2347920"/>
              <a:ext cx="10512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49080" y="5057280"/>
              <a:ext cx="917280" cy="88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49080" y="5057280"/>
              <a:ext cx="917280" cy="88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49080" y="4172760"/>
              <a:ext cx="9172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49080" y="4172760"/>
              <a:ext cx="9172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9080" y="3287520"/>
              <a:ext cx="917280" cy="88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9080" y="3287520"/>
              <a:ext cx="917280" cy="88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49080" y="2402640"/>
              <a:ext cx="9172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49080" y="2402640"/>
              <a:ext cx="9172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914160" y="5887440"/>
              <a:ext cx="105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14160" y="5002560"/>
              <a:ext cx="105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14160" y="4117320"/>
              <a:ext cx="105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14160" y="3232440"/>
              <a:ext cx="105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14160" y="2347920"/>
              <a:ext cx="105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042920" y="1267920"/>
            <a:ext cx="7561440" cy="10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mate nodes: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 value by as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l nodes: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might not be corr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dentified node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yet consid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1590840" y="1287360"/>
            <a:ext cx="156960" cy="144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90840" y="1619280"/>
            <a:ext cx="156960" cy="144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90840" y="1943280"/>
            <a:ext cx="1569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4360" y="4857840"/>
            <a:ext cx="1062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4525920"/>
            <a:ext cx="12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2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92360" y="550800"/>
            <a:ext cx="6264360" cy="722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-initialisation by FMM Algorithm 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811-4AA3-46CB-B481-5C9AA0EA2C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1403280" y="2179800"/>
            <a:ext cx="5616720" cy="3706200"/>
            <a:chOff x="1403280" y="2179800"/>
            <a:chExt cx="5616720" cy="3706200"/>
          </a:xfrm>
        </p:grpSpPr>
        <p:sp>
          <p:nvSpPr>
            <p:cNvPr id="342" name=""/>
            <p:cNvSpPr/>
            <p:nvPr/>
          </p:nvSpPr>
          <p:spPr>
            <a:xfrm>
              <a:off x="1457280" y="494640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57280" y="494640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06520" y="5776920"/>
              <a:ext cx="104760" cy="109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74920" y="494640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74920" y="494640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92560" y="494640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92560" y="494640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10200" y="4946400"/>
              <a:ext cx="91908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10200" y="4946400"/>
              <a:ext cx="91908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29280" y="494640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29280" y="494640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57280" y="4060800"/>
              <a:ext cx="91764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57280" y="4060800"/>
              <a:ext cx="91764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74920" y="4060800"/>
              <a:ext cx="91764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74920" y="4060800"/>
              <a:ext cx="91764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92560" y="4060800"/>
              <a:ext cx="91764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92560" y="4060800"/>
              <a:ext cx="91764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10200" y="4060800"/>
              <a:ext cx="91908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10200" y="4060800"/>
              <a:ext cx="91908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29280" y="4060800"/>
              <a:ext cx="91764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29280" y="4060800"/>
              <a:ext cx="91764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57280" y="3176640"/>
              <a:ext cx="917640" cy="88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57280" y="3176640"/>
              <a:ext cx="917640" cy="88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74920" y="3176640"/>
              <a:ext cx="917640" cy="88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74920" y="3176640"/>
              <a:ext cx="917640" cy="88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92560" y="3176640"/>
              <a:ext cx="917640" cy="88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92560" y="3176640"/>
              <a:ext cx="917640" cy="88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10200" y="3176640"/>
              <a:ext cx="919080" cy="88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10200" y="3176640"/>
              <a:ext cx="919080" cy="88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29280" y="3176640"/>
              <a:ext cx="917640" cy="88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29280" y="3176640"/>
              <a:ext cx="917640" cy="88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57280" y="2290680"/>
              <a:ext cx="91764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57280" y="2290680"/>
              <a:ext cx="91764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74920" y="2290680"/>
              <a:ext cx="91764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74920" y="2290680"/>
              <a:ext cx="91764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92560" y="2290680"/>
              <a:ext cx="91764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92560" y="2290680"/>
              <a:ext cx="91764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10200" y="2290680"/>
              <a:ext cx="91908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10200" y="2290680"/>
              <a:ext cx="91908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29280" y="2290680"/>
              <a:ext cx="91764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29280" y="2290680"/>
              <a:ext cx="91764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22360" y="5776920"/>
              <a:ext cx="104760" cy="109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40000" y="5776920"/>
              <a:ext cx="104760" cy="109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57640" y="5776920"/>
              <a:ext cx="106560" cy="109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75280" y="5776920"/>
              <a:ext cx="106200" cy="109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03280" y="4890960"/>
              <a:ext cx="106560" cy="109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22360" y="4890960"/>
              <a:ext cx="104760" cy="109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40000" y="4890960"/>
              <a:ext cx="104760" cy="109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57640" y="4890960"/>
              <a:ext cx="106560" cy="109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75280" y="4890960"/>
              <a:ext cx="106200" cy="109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4006800"/>
              <a:ext cx="106560" cy="109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22360" y="4006800"/>
              <a:ext cx="104760" cy="109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40000" y="4006800"/>
              <a:ext cx="104760" cy="109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57640" y="4006800"/>
              <a:ext cx="106560" cy="109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75280" y="4006800"/>
              <a:ext cx="106200" cy="109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03280" y="3120840"/>
              <a:ext cx="106560" cy="109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22360" y="3120840"/>
              <a:ext cx="104760" cy="109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40000" y="312084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57640" y="3120840"/>
              <a:ext cx="1065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75280" y="3120840"/>
              <a:ext cx="106200" cy="109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06520" y="2236680"/>
              <a:ext cx="104760" cy="10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22360" y="2236680"/>
              <a:ext cx="104760" cy="109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0000" y="2236680"/>
              <a:ext cx="104760" cy="109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7640" y="2236680"/>
              <a:ext cx="106560" cy="109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75280" y="2236680"/>
              <a:ext cx="106200" cy="109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57280" y="2290680"/>
              <a:ext cx="2114640" cy="3319200"/>
            </a:xfrm>
            <a:custGeom>
              <a:avLst/>
              <a:gdLst/>
              <a:ahLst/>
              <a:rect l="l" t="t" r="r" b="b"/>
              <a:pathLst>
                <a:path w="1496" h="1633">
                  <a:moveTo>
                    <a:pt x="0" y="1633"/>
                  </a:moveTo>
                  <a:cubicBezTo>
                    <a:pt x="487" y="1610"/>
                    <a:pt x="975" y="1587"/>
                    <a:pt x="1224" y="1315"/>
                  </a:cubicBezTo>
                  <a:cubicBezTo>
                    <a:pt x="1473" y="1043"/>
                    <a:pt x="1451" y="219"/>
                    <a:pt x="1496" y="0"/>
                  </a:cubicBezTo>
                </a:path>
              </a:pathLst>
            </a:custGeom>
            <a:noFill/>
            <a:ln w="28440">
              <a:solidFill>
                <a:srgbClr val="ff6600">
                  <a:alpha val="6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94360" y="5776920"/>
              <a:ext cx="104760" cy="10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94360" y="4890960"/>
              <a:ext cx="104760" cy="10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94360" y="4006800"/>
              <a:ext cx="104760" cy="10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94360" y="3120840"/>
              <a:ext cx="10476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94360" y="2236680"/>
              <a:ext cx="104760" cy="10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48360" y="494640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48360" y="494640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48360" y="4060800"/>
              <a:ext cx="91764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48360" y="4060800"/>
              <a:ext cx="91764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48360" y="3176640"/>
              <a:ext cx="917640" cy="88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48360" y="3176640"/>
              <a:ext cx="917640" cy="88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48360" y="2290680"/>
              <a:ext cx="91764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48360" y="2290680"/>
              <a:ext cx="91764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13440" y="5776920"/>
              <a:ext cx="106560" cy="10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13440" y="4890960"/>
              <a:ext cx="106560" cy="10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13440" y="4006800"/>
              <a:ext cx="106560" cy="10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913440" y="3120840"/>
              <a:ext cx="10656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13440" y="2236680"/>
              <a:ext cx="106560" cy="10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10120" y="3065400"/>
              <a:ext cx="238320" cy="221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91040" y="3065400"/>
              <a:ext cx="237960" cy="221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91040" y="2179800"/>
              <a:ext cx="237960" cy="223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16720" y="22366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UE Met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15280" y="31194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UE Met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731120" y="31194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UE Met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755640" y="1328760"/>
            <a:ext cx="77040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rial value  C  from proximate values  A  and  B  and mesh si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3508200" y="3120840"/>
            <a:ext cx="695520" cy="5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3571920" y="2236680"/>
            <a:ext cx="627120" cy="5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92360" y="550800"/>
            <a:ext cx="6264360" cy="722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-initialisation by FMM Algorithm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226-6A43-4966-977C-A6E4478808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212040" y="1251000"/>
            <a:ext cx="5763960" cy="4789440"/>
            <a:chOff x="212040" y="1251000"/>
            <a:chExt cx="5763960" cy="4789440"/>
          </a:xfrm>
        </p:grpSpPr>
        <p:sp>
          <p:nvSpPr>
            <p:cNvPr id="437" name=""/>
            <p:cNvSpPr/>
            <p:nvPr/>
          </p:nvSpPr>
          <p:spPr>
            <a:xfrm>
              <a:off x="1692360" y="1742040"/>
              <a:ext cx="3887640" cy="3828600"/>
            </a:xfrm>
            <a:prstGeom prst="rtTriangl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79920" y="5483160"/>
              <a:ext cx="198720" cy="173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00200" y="1653120"/>
              <a:ext cx="198360" cy="173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00200" y="5466240"/>
              <a:ext cx="198360" cy="173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71360" y="551988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UE Met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95280" y="55198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UE Met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84480" y="1251000"/>
              <a:ext cx="40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UE Met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2040" y="3273480"/>
              <a:ext cx="131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Δ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14280" y="1752480"/>
              <a:ext cx="0" cy="38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3659040" y="2278080"/>
                <a:ext cx="4416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Δ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1692360" y="550800"/>
            <a:ext cx="6264360" cy="722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-initialisation by FMM Algorithm 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614840" y="3265560"/>
            <a:ext cx="394812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 quadratic equation in </a:t>
            </a:r>
            <a:r>
              <a:rPr b="0" i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θ</a:t>
            </a:r>
            <a:r>
              <a:rPr b="0" i="1" lang="nl-NL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C </a:t>
            </a:r>
            <a:r>
              <a:rPr b="0" i="1" lang="nl-N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ich can simply be 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F44-EE6C-4236-AAB0-8A55B98C00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1403280" y="2179800"/>
            <a:ext cx="5616360" cy="3708000"/>
            <a:chOff x="1403280" y="2179800"/>
            <a:chExt cx="5616360" cy="3708000"/>
          </a:xfrm>
        </p:grpSpPr>
        <p:sp>
          <p:nvSpPr>
            <p:cNvPr id="450" name=""/>
            <p:cNvSpPr/>
            <p:nvPr/>
          </p:nvSpPr>
          <p:spPr>
            <a:xfrm>
              <a:off x="5009400" y="3065040"/>
              <a:ext cx="238680" cy="222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28920" y="2291040"/>
              <a:ext cx="91728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56560" y="4947480"/>
              <a:ext cx="91728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56560" y="4947480"/>
              <a:ext cx="91728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5800" y="5778000"/>
              <a:ext cx="10512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73840" y="4947480"/>
              <a:ext cx="91836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73840" y="4947480"/>
              <a:ext cx="91836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92560" y="4947480"/>
              <a:ext cx="91728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92560" y="4947480"/>
              <a:ext cx="91728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09840" y="4947480"/>
              <a:ext cx="91872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09840" y="4947480"/>
              <a:ext cx="91872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28920" y="4947480"/>
              <a:ext cx="91728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28920" y="4947480"/>
              <a:ext cx="91728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56560" y="4062240"/>
              <a:ext cx="91728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56560" y="4062240"/>
              <a:ext cx="91728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73840" y="4062240"/>
              <a:ext cx="91836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73840" y="4062240"/>
              <a:ext cx="91836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92560" y="4062240"/>
              <a:ext cx="91728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92560" y="4062240"/>
              <a:ext cx="91728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209840" y="4062240"/>
              <a:ext cx="91872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09840" y="4062240"/>
              <a:ext cx="91872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28920" y="4062240"/>
              <a:ext cx="91728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28920" y="4062240"/>
              <a:ext cx="91728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56560" y="3176280"/>
              <a:ext cx="91728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56560" y="3176280"/>
              <a:ext cx="91728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73840" y="3176280"/>
              <a:ext cx="91836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373840" y="3176280"/>
              <a:ext cx="91836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92560" y="3176280"/>
              <a:ext cx="91728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92560" y="3176280"/>
              <a:ext cx="91728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09840" y="3176280"/>
              <a:ext cx="91872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09840" y="3176280"/>
              <a:ext cx="91872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28920" y="3176280"/>
              <a:ext cx="91728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128920" y="3176280"/>
              <a:ext cx="91728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56560" y="2291040"/>
              <a:ext cx="91728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56560" y="2291040"/>
              <a:ext cx="91728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73840" y="2291040"/>
              <a:ext cx="91836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73840" y="2291040"/>
              <a:ext cx="91836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92560" y="2291040"/>
              <a:ext cx="91728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92560" y="2291040"/>
              <a:ext cx="91728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9840" y="2291040"/>
              <a:ext cx="91872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09840" y="2291040"/>
              <a:ext cx="91872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128920" y="2291040"/>
              <a:ext cx="91728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21640" y="5778000"/>
              <a:ext cx="1054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238920" y="5778000"/>
              <a:ext cx="1054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58000" y="5778000"/>
              <a:ext cx="10512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75280" y="5778000"/>
              <a:ext cx="10548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03280" y="4892400"/>
              <a:ext cx="10512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21640" y="4892400"/>
              <a:ext cx="1054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38920" y="4892400"/>
              <a:ext cx="1054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58000" y="4892400"/>
              <a:ext cx="10512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75280" y="4892400"/>
              <a:ext cx="10548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03280" y="4006800"/>
              <a:ext cx="10512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21640" y="4006800"/>
              <a:ext cx="1054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38920" y="4006800"/>
              <a:ext cx="1054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158000" y="4006800"/>
              <a:ext cx="10512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75280" y="4006800"/>
              <a:ext cx="10548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403280" y="3121560"/>
              <a:ext cx="10512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21640" y="3121560"/>
              <a:ext cx="10548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238920" y="3121560"/>
              <a:ext cx="1054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58000" y="3121560"/>
              <a:ext cx="10512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75280" y="3121560"/>
              <a:ext cx="105480" cy="10980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405800" y="2236320"/>
              <a:ext cx="10512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21640" y="2236320"/>
              <a:ext cx="10548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38920" y="2236320"/>
              <a:ext cx="1054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58000" y="2236320"/>
              <a:ext cx="10512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75280" y="2236320"/>
              <a:ext cx="105480" cy="109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56560" y="2291040"/>
              <a:ext cx="2115720" cy="3319920"/>
            </a:xfrm>
            <a:custGeom>
              <a:avLst/>
              <a:gdLst/>
              <a:ahLst/>
              <a:rect l="l" t="t" r="r" b="b"/>
              <a:pathLst>
                <a:path w="1496" h="1633">
                  <a:moveTo>
                    <a:pt x="0" y="1633"/>
                  </a:moveTo>
                  <a:cubicBezTo>
                    <a:pt x="487" y="1610"/>
                    <a:pt x="975" y="1587"/>
                    <a:pt x="1224" y="1315"/>
                  </a:cubicBezTo>
                  <a:cubicBezTo>
                    <a:pt x="1473" y="1043"/>
                    <a:pt x="1451" y="219"/>
                    <a:pt x="1496" y="0"/>
                  </a:cubicBezTo>
                </a:path>
              </a:pathLst>
            </a:custGeom>
            <a:noFill/>
            <a:ln w="28440">
              <a:solidFill>
                <a:srgbClr val="ff6600">
                  <a:alpha val="6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94360" y="5778000"/>
              <a:ext cx="10512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94360" y="4892400"/>
              <a:ext cx="10512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94360" y="4006800"/>
              <a:ext cx="10512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94360" y="3121560"/>
              <a:ext cx="10512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994360" y="2236320"/>
              <a:ext cx="10512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49080" y="4947480"/>
              <a:ext cx="91728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49080" y="4947480"/>
              <a:ext cx="91728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49080" y="4062240"/>
              <a:ext cx="91728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49080" y="4062240"/>
              <a:ext cx="91728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049080" y="3176280"/>
              <a:ext cx="91728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49080" y="3176280"/>
              <a:ext cx="91728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49080" y="2291040"/>
              <a:ext cx="917280" cy="88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49080" y="2291040"/>
              <a:ext cx="917280" cy="88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14160" y="5778000"/>
              <a:ext cx="105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14160" y="4892400"/>
              <a:ext cx="105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14160" y="4006800"/>
              <a:ext cx="105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14160" y="3121560"/>
              <a:ext cx="105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14160" y="2236320"/>
              <a:ext cx="105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0680" y="3065040"/>
              <a:ext cx="238320" cy="222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90680" y="2179800"/>
              <a:ext cx="238320" cy="222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16360" y="22363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UE Met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15280" y="31215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UE Met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730760" y="31215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UE Met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826920" y="1530360"/>
            <a:ext cx="73454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l point C is added to set of accepted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3514320" y="3065400"/>
            <a:ext cx="1614600" cy="10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92360" y="550800"/>
            <a:ext cx="6264360" cy="722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-initialisation by FMM Algorithm 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204-ABAF-4D41-AB99-D134DC7BEE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403280" y="2354400"/>
            <a:ext cx="5607000" cy="3649680"/>
            <a:chOff x="1403280" y="2354400"/>
            <a:chExt cx="5607000" cy="3649680"/>
          </a:xfrm>
        </p:grpSpPr>
        <p:sp>
          <p:nvSpPr>
            <p:cNvPr id="544" name=""/>
            <p:cNvSpPr/>
            <p:nvPr/>
          </p:nvSpPr>
          <p:spPr>
            <a:xfrm>
              <a:off x="1457280" y="5064480"/>
              <a:ext cx="91620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57280" y="5064480"/>
              <a:ext cx="91620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06520" y="589464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73480" y="5064480"/>
              <a:ext cx="91908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73480" y="5064480"/>
              <a:ext cx="91908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92560" y="506448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92560" y="506448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10200" y="5064480"/>
              <a:ext cx="91728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10200" y="5064480"/>
              <a:ext cx="91728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27480" y="506448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27480" y="506448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57280" y="4179960"/>
              <a:ext cx="91620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57280" y="4179960"/>
              <a:ext cx="91620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373480" y="4179960"/>
              <a:ext cx="9190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373480" y="4179960"/>
              <a:ext cx="9190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92560" y="4179960"/>
              <a:ext cx="9176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92560" y="4179960"/>
              <a:ext cx="9176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10200" y="4179960"/>
              <a:ext cx="9172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10200" y="4179960"/>
              <a:ext cx="9172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27480" y="4179960"/>
              <a:ext cx="9176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27480" y="4179960"/>
              <a:ext cx="9176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457280" y="3294360"/>
              <a:ext cx="91620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57280" y="3294360"/>
              <a:ext cx="91620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73480" y="3294360"/>
              <a:ext cx="91908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373480" y="3294360"/>
              <a:ext cx="91908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92560" y="3294360"/>
              <a:ext cx="91764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92560" y="3294360"/>
              <a:ext cx="91764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10200" y="3294360"/>
              <a:ext cx="91728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10200" y="3294360"/>
              <a:ext cx="91728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27480" y="3294360"/>
              <a:ext cx="91764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27480" y="3294360"/>
              <a:ext cx="91764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57280" y="2409840"/>
              <a:ext cx="91620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57280" y="2409840"/>
              <a:ext cx="91620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73480" y="2409840"/>
              <a:ext cx="9190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73480" y="2409840"/>
              <a:ext cx="9190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92560" y="2409840"/>
              <a:ext cx="9176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92560" y="2409840"/>
              <a:ext cx="9176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10200" y="2409840"/>
              <a:ext cx="9172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10200" y="2409840"/>
              <a:ext cx="9172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27480" y="2409840"/>
              <a:ext cx="9176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27480" y="2409840"/>
              <a:ext cx="9176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22360" y="589464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38560" y="5894640"/>
              <a:ext cx="10620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57640" y="589464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75280" y="589464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03280" y="5008680"/>
              <a:ext cx="1047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22360" y="5008680"/>
              <a:ext cx="1047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38560" y="5008680"/>
              <a:ext cx="10620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57640" y="5008680"/>
              <a:ext cx="1047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5280" y="500868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403280" y="412452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22360" y="412452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38560" y="4124520"/>
              <a:ext cx="10620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57640" y="412452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75280" y="412452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03280" y="323856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322360" y="323856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38560" y="3238560"/>
              <a:ext cx="10620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57640" y="3238560"/>
              <a:ext cx="1047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75280" y="323856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406520" y="2354400"/>
              <a:ext cx="10476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22360" y="235440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38560" y="2354400"/>
              <a:ext cx="10620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57640" y="235440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75280" y="235440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57280" y="2409840"/>
              <a:ext cx="2114640" cy="3318120"/>
            </a:xfrm>
            <a:custGeom>
              <a:avLst/>
              <a:gdLst/>
              <a:ahLst/>
              <a:rect l="l" t="t" r="r" b="b"/>
              <a:pathLst>
                <a:path w="1496" h="1633">
                  <a:moveTo>
                    <a:pt x="0" y="1633"/>
                  </a:moveTo>
                  <a:cubicBezTo>
                    <a:pt x="487" y="1610"/>
                    <a:pt x="975" y="1587"/>
                    <a:pt x="1224" y="1315"/>
                  </a:cubicBezTo>
                  <a:cubicBezTo>
                    <a:pt x="1473" y="1043"/>
                    <a:pt x="1451" y="219"/>
                    <a:pt x="1496" y="0"/>
                  </a:cubicBezTo>
                </a:path>
              </a:pathLst>
            </a:custGeom>
            <a:noFill/>
            <a:ln w="28440">
              <a:solidFill>
                <a:srgbClr val="ff6600">
                  <a:alpha val="6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85000" y="5894640"/>
              <a:ext cx="10620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85000" y="5008680"/>
              <a:ext cx="10620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985000" y="4124520"/>
              <a:ext cx="10620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85000" y="3238560"/>
              <a:ext cx="10620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85000" y="2354400"/>
              <a:ext cx="10620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40440" y="5064480"/>
              <a:ext cx="9158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40440" y="5064480"/>
              <a:ext cx="9158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40440" y="4179960"/>
              <a:ext cx="9158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40440" y="4179960"/>
              <a:ext cx="9158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40440" y="3294360"/>
              <a:ext cx="91584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40440" y="3294360"/>
              <a:ext cx="91584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40440" y="2409840"/>
              <a:ext cx="9158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40440" y="2409840"/>
              <a:ext cx="9158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905520" y="5894640"/>
              <a:ext cx="10476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905520" y="5008680"/>
              <a:ext cx="10476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05520" y="4124520"/>
              <a:ext cx="10476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905520" y="3238560"/>
              <a:ext cx="10476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05520" y="2354400"/>
              <a:ext cx="10476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1042920" y="1272960"/>
            <a:ext cx="756144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mate node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correct by as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l nodes: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might not be corr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pted nodes: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updated by FM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"/>
          <p:cNvSpPr/>
          <p:nvPr/>
        </p:nvSpPr>
        <p:spPr>
          <a:xfrm>
            <a:off x="1590840" y="1295280"/>
            <a:ext cx="156960" cy="144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590840" y="1611360"/>
            <a:ext cx="156960" cy="144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590840" y="1920960"/>
            <a:ext cx="156960" cy="144360"/>
          </a:xfrm>
          <a:prstGeom prst="ellipse">
            <a:avLst/>
          </a:prstGeom>
          <a:solidFill>
            <a:srgbClr val="ffe7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692360" y="550800"/>
            <a:ext cx="6264360" cy="722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-initialisation by FMM Algorithm 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4D8-5240-4B9D-A9FB-7C9F579725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042920" y="1281240"/>
            <a:ext cx="75614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6760" indent="-2667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mate node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correct by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l nodes: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might not be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pted nodes: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updated by F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403280" y="2347920"/>
            <a:ext cx="5607000" cy="3649680"/>
            <a:chOff x="1403280" y="2347920"/>
            <a:chExt cx="5607000" cy="3649680"/>
          </a:xfrm>
        </p:grpSpPr>
        <p:sp>
          <p:nvSpPr>
            <p:cNvPr id="635" name=""/>
            <p:cNvSpPr/>
            <p:nvPr/>
          </p:nvSpPr>
          <p:spPr>
            <a:xfrm>
              <a:off x="6040440" y="5058000"/>
              <a:ext cx="9158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40440" y="4173480"/>
              <a:ext cx="9158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040440" y="3287880"/>
              <a:ext cx="91584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040440" y="2403360"/>
              <a:ext cx="9158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40440" y="5058000"/>
              <a:ext cx="9158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40440" y="4173480"/>
              <a:ext cx="9158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40440" y="3287880"/>
              <a:ext cx="91584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40440" y="2403360"/>
              <a:ext cx="9158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57280" y="5058000"/>
              <a:ext cx="91620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57280" y="5058000"/>
              <a:ext cx="91620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373480" y="5058000"/>
              <a:ext cx="91908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373480" y="5058000"/>
              <a:ext cx="91908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92560" y="505800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92560" y="505800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10200" y="5058000"/>
              <a:ext cx="91728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10200" y="5058000"/>
              <a:ext cx="91728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27480" y="505800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27480" y="505800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457280" y="4173480"/>
              <a:ext cx="91620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57280" y="4173480"/>
              <a:ext cx="91620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73480" y="4173480"/>
              <a:ext cx="9190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73480" y="4173480"/>
              <a:ext cx="9190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92560" y="4173480"/>
              <a:ext cx="9176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92560" y="4173480"/>
              <a:ext cx="9176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10200" y="4173480"/>
              <a:ext cx="9172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10200" y="4173480"/>
              <a:ext cx="9172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27480" y="4173480"/>
              <a:ext cx="9176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27480" y="4173480"/>
              <a:ext cx="9176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57280" y="3287880"/>
              <a:ext cx="91620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7280" y="3287880"/>
              <a:ext cx="91620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73480" y="3287880"/>
              <a:ext cx="91908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73480" y="3287880"/>
              <a:ext cx="91908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92560" y="3287880"/>
              <a:ext cx="91764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92560" y="3287880"/>
              <a:ext cx="91764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10200" y="3287880"/>
              <a:ext cx="91728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210200" y="3287880"/>
              <a:ext cx="91728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27480" y="3287880"/>
              <a:ext cx="917640" cy="88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27480" y="3287880"/>
              <a:ext cx="91764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57280" y="2403360"/>
              <a:ext cx="91620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457280" y="2403360"/>
              <a:ext cx="91620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373480" y="2403360"/>
              <a:ext cx="9190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373480" y="2403360"/>
              <a:ext cx="9190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92560" y="2403360"/>
              <a:ext cx="9176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92560" y="2403360"/>
              <a:ext cx="9176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10200" y="2403360"/>
              <a:ext cx="91728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10200" y="2403360"/>
              <a:ext cx="91728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27480" y="2403360"/>
              <a:ext cx="917640" cy="88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127480" y="2403360"/>
              <a:ext cx="917640" cy="8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03280" y="5002200"/>
              <a:ext cx="1047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22360" y="5002200"/>
              <a:ext cx="1047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38560" y="5002200"/>
              <a:ext cx="10620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57640" y="5002200"/>
              <a:ext cx="1047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75280" y="500220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403280" y="411804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22360" y="411804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38560" y="4118040"/>
              <a:ext cx="10620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157640" y="411804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75280" y="411804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03280" y="323208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22360" y="323208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38560" y="3232080"/>
              <a:ext cx="10620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157640" y="3232080"/>
              <a:ext cx="1047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75280" y="323208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06520" y="2347920"/>
              <a:ext cx="104760" cy="109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22360" y="234792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38560" y="2347920"/>
              <a:ext cx="10620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57640" y="234792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75280" y="234792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457280" y="2403360"/>
              <a:ext cx="2114640" cy="3318120"/>
            </a:xfrm>
            <a:custGeom>
              <a:avLst/>
              <a:gdLst/>
              <a:ahLst/>
              <a:rect l="l" t="t" r="r" b="b"/>
              <a:pathLst>
                <a:path w="1496" h="1633">
                  <a:moveTo>
                    <a:pt x="0" y="1633"/>
                  </a:moveTo>
                  <a:cubicBezTo>
                    <a:pt x="487" y="1610"/>
                    <a:pt x="975" y="1587"/>
                    <a:pt x="1224" y="1315"/>
                  </a:cubicBezTo>
                  <a:cubicBezTo>
                    <a:pt x="1473" y="1043"/>
                    <a:pt x="1451" y="219"/>
                    <a:pt x="1496" y="0"/>
                  </a:cubicBezTo>
                </a:path>
              </a:pathLst>
            </a:custGeom>
            <a:noFill/>
            <a:ln w="28440">
              <a:solidFill>
                <a:srgbClr val="ff6600">
                  <a:alpha val="6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85000" y="5002200"/>
              <a:ext cx="106200" cy="1112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85000" y="4118040"/>
              <a:ext cx="106200" cy="109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85000" y="3232080"/>
              <a:ext cx="106200" cy="1112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985000" y="2347920"/>
              <a:ext cx="106200" cy="109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05520" y="5002200"/>
              <a:ext cx="10476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905520" y="4118040"/>
              <a:ext cx="10476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05520" y="3232080"/>
              <a:ext cx="10476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905520" y="2347920"/>
              <a:ext cx="10476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3280" y="5886360"/>
              <a:ext cx="1047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22360" y="5886360"/>
              <a:ext cx="1047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38560" y="5886360"/>
              <a:ext cx="10620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57640" y="588636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075280" y="588636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85000" y="5886360"/>
              <a:ext cx="106200" cy="1112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905520" y="5886360"/>
              <a:ext cx="10476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1590840" y="1281240"/>
            <a:ext cx="156960" cy="144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90840" y="1611360"/>
            <a:ext cx="156960" cy="144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590840" y="1920960"/>
            <a:ext cx="156960" cy="144360"/>
          </a:xfrm>
          <a:prstGeom prst="ellipse">
            <a:avLst/>
          </a:prstGeom>
          <a:solidFill>
            <a:srgbClr val="ffe7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457280" y="550800"/>
            <a:ext cx="6499440" cy="722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-initialisation by FMM Algorithm 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B42-8FE2-4024-BF54-831E80E1F8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042920" y="1273320"/>
            <a:ext cx="75614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6760" indent="-2667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mate node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correct by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l nodes: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might not be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pted nodes: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updated by F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590840" y="1281240"/>
            <a:ext cx="156960" cy="144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90840" y="1611360"/>
            <a:ext cx="156960" cy="144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403280" y="2347920"/>
            <a:ext cx="5607000" cy="3649680"/>
            <a:chOff x="1403280" y="2347920"/>
            <a:chExt cx="5607000" cy="3649680"/>
          </a:xfrm>
        </p:grpSpPr>
        <p:sp>
          <p:nvSpPr>
            <p:cNvPr id="727" name=""/>
            <p:cNvSpPr/>
            <p:nvPr/>
          </p:nvSpPr>
          <p:spPr>
            <a:xfrm>
              <a:off x="6040440" y="5057640"/>
              <a:ext cx="9158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40440" y="4173480"/>
              <a:ext cx="9158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40440" y="3287520"/>
              <a:ext cx="91584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040440" y="2403360"/>
              <a:ext cx="9158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040440" y="5057640"/>
              <a:ext cx="9158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040440" y="4173480"/>
              <a:ext cx="9158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40440" y="3287520"/>
              <a:ext cx="915840" cy="88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40440" y="2403360"/>
              <a:ext cx="9158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457280" y="5057640"/>
              <a:ext cx="91620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457280" y="5057640"/>
              <a:ext cx="91620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373480" y="5057640"/>
              <a:ext cx="91908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73480" y="5057640"/>
              <a:ext cx="91908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292560" y="505764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92560" y="505764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10200" y="5057640"/>
              <a:ext cx="91728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10200" y="5057640"/>
              <a:ext cx="91728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27480" y="505764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27480" y="505764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57280" y="4173480"/>
              <a:ext cx="91620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57280" y="4173480"/>
              <a:ext cx="91620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73480" y="4173480"/>
              <a:ext cx="91908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73480" y="4173480"/>
              <a:ext cx="91908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92560" y="417348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292560" y="417348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210200" y="4173480"/>
              <a:ext cx="91728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210200" y="4173480"/>
              <a:ext cx="91728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27480" y="417348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27480" y="417348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457280" y="3287520"/>
              <a:ext cx="916200" cy="88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57280" y="3287520"/>
              <a:ext cx="91620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73480" y="3287520"/>
              <a:ext cx="919080" cy="88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373480" y="3287520"/>
              <a:ext cx="91908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292560" y="3287520"/>
              <a:ext cx="917640" cy="88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92560" y="3287520"/>
              <a:ext cx="91764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210200" y="3287520"/>
              <a:ext cx="917280" cy="88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210200" y="3287520"/>
              <a:ext cx="91728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27480" y="3287520"/>
              <a:ext cx="917640" cy="88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27480" y="3287520"/>
              <a:ext cx="91764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457280" y="2403360"/>
              <a:ext cx="91620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57280" y="2403360"/>
              <a:ext cx="91620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373480" y="2403360"/>
              <a:ext cx="91908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73480" y="2403360"/>
              <a:ext cx="91908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92560" y="240336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292560" y="240336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210200" y="2403360"/>
              <a:ext cx="91728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210200" y="2403360"/>
              <a:ext cx="91728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127480" y="2403360"/>
              <a:ext cx="917640" cy="88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127480" y="2403360"/>
              <a:ext cx="91764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03280" y="5002200"/>
              <a:ext cx="104760" cy="110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322360" y="5002200"/>
              <a:ext cx="104760" cy="110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38560" y="5002200"/>
              <a:ext cx="106200" cy="110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57640" y="5002200"/>
              <a:ext cx="104760" cy="110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075280" y="5002200"/>
              <a:ext cx="104760" cy="11088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03280" y="411804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322360" y="411804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38560" y="4118040"/>
              <a:ext cx="10620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157640" y="411804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075280" y="411804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403280" y="323208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322360" y="323208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38560" y="3232080"/>
              <a:ext cx="10620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157640" y="3232080"/>
              <a:ext cx="1047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5280" y="323208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406520" y="234792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22360" y="234792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238560" y="2347920"/>
              <a:ext cx="10620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57640" y="2347920"/>
              <a:ext cx="104760" cy="1094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075280" y="234792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457280" y="2403360"/>
              <a:ext cx="2114640" cy="3317760"/>
            </a:xfrm>
            <a:custGeom>
              <a:avLst/>
              <a:gdLst/>
              <a:ahLst/>
              <a:rect l="l" t="t" r="r" b="b"/>
              <a:pathLst>
                <a:path w="1496" h="1633">
                  <a:moveTo>
                    <a:pt x="0" y="1633"/>
                  </a:moveTo>
                  <a:cubicBezTo>
                    <a:pt x="487" y="1610"/>
                    <a:pt x="975" y="1587"/>
                    <a:pt x="1224" y="1315"/>
                  </a:cubicBezTo>
                  <a:cubicBezTo>
                    <a:pt x="1473" y="1043"/>
                    <a:pt x="1451" y="219"/>
                    <a:pt x="1496" y="0"/>
                  </a:cubicBezTo>
                </a:path>
              </a:pathLst>
            </a:custGeom>
            <a:noFill/>
            <a:ln w="28440">
              <a:solidFill>
                <a:srgbClr val="ff6600">
                  <a:alpha val="6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85000" y="5002200"/>
              <a:ext cx="106200" cy="11088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85000" y="4118040"/>
              <a:ext cx="10620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5000" y="3232080"/>
              <a:ext cx="10620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985000" y="2347920"/>
              <a:ext cx="10620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905520" y="5002200"/>
              <a:ext cx="104760" cy="11088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905520" y="411804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905520" y="323208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905520" y="2347920"/>
              <a:ext cx="104760" cy="1094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403280" y="5886360"/>
              <a:ext cx="1047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322360" y="5886360"/>
              <a:ext cx="10476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38560" y="5886360"/>
              <a:ext cx="106200" cy="11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157640" y="588636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075280" y="588636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85000" y="5886360"/>
              <a:ext cx="10620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905520" y="5886360"/>
              <a:ext cx="104760" cy="111240"/>
            </a:xfrm>
            <a:prstGeom prst="ellipse">
              <a:avLst/>
            </a:prstGeom>
            <a:solidFill>
              <a:srgbClr val="ffe7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1590840" y="1920960"/>
            <a:ext cx="156960" cy="144360"/>
          </a:xfrm>
          <a:prstGeom prst="ellipse">
            <a:avLst/>
          </a:prstGeom>
          <a:solidFill>
            <a:srgbClr val="ffe7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692360" y="550800"/>
            <a:ext cx="6264360" cy="722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-initialisation by FMM Algorithm 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043-AFF7-4256-9F90-254173F9CB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050560" y="582480"/>
            <a:ext cx="4969080" cy="673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Simulation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"/>
          <p:cNvSpPr/>
          <p:nvPr/>
        </p:nvSpPr>
        <p:spPr>
          <a:xfrm>
            <a:off x="3492360" y="907920"/>
            <a:ext cx="71928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11280" y="1255680"/>
            <a:ext cx="46893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ite element discret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ixed mesh for entire flow dom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D axi-symmetr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quipment boundar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361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-slip of g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361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is allowed to “flow out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6985080" y="1255680"/>
            <a:ext cx="1460520" cy="433404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3"/>
          <a:stretch/>
        </p:blipFill>
        <p:spPr>
          <a:xfrm>
            <a:off x="5475240" y="1255680"/>
            <a:ext cx="1544760" cy="433404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5300640" y="5607000"/>
            <a:ext cx="1719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P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70520" y="5607000"/>
            <a:ext cx="1719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Bo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52D-196B-474B-A7F1-02BDB46FA5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"/>
          <p:cNvGrpSpPr/>
          <p:nvPr/>
        </p:nvGrpSpPr>
        <p:grpSpPr>
          <a:xfrm>
            <a:off x="3600000" y="1630440"/>
            <a:ext cx="1899000" cy="4414680"/>
            <a:chOff x="3600000" y="1630440"/>
            <a:chExt cx="1899000" cy="4414680"/>
          </a:xfrm>
        </p:grpSpPr>
        <p:grpSp>
          <p:nvGrpSpPr>
            <p:cNvPr id="821" name=""/>
            <p:cNvGrpSpPr/>
            <p:nvPr/>
          </p:nvGrpSpPr>
          <p:grpSpPr>
            <a:xfrm>
              <a:off x="3600000" y="1630440"/>
              <a:ext cx="1899000" cy="4414680"/>
              <a:chOff x="3600000" y="1630440"/>
              <a:chExt cx="1899000" cy="4414680"/>
            </a:xfrm>
          </p:grpSpPr>
          <p:pic>
            <p:nvPicPr>
              <p:cNvPr id="822" name="" descr=""/>
              <p:cNvPicPr/>
              <p:nvPr/>
            </p:nvPicPr>
            <p:blipFill>
              <a:blip r:embed="rId2"/>
              <a:srcRect l="10213" t="0" r="0" b="0"/>
              <a:stretch/>
            </p:blipFill>
            <p:spPr>
              <a:xfrm>
                <a:off x="4549680" y="1630440"/>
                <a:ext cx="949320" cy="441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3" name="" descr=""/>
              <p:cNvPicPr/>
              <p:nvPr/>
            </p:nvPicPr>
            <p:blipFill>
              <a:blip r:embed="rId3"/>
              <a:srcRect l="10213" t="0" r="0" b="0"/>
              <a:stretch/>
            </p:blipFill>
            <p:spPr>
              <a:xfrm flipH="1">
                <a:off x="3600000" y="1630440"/>
                <a:ext cx="949320" cy="4414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4" name=""/>
            <p:cNvSpPr/>
            <p:nvPr/>
          </p:nvSpPr>
          <p:spPr>
            <a:xfrm>
              <a:off x="4549680" y="1672920"/>
              <a:ext cx="0" cy="435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389320" y="533160"/>
            <a:ext cx="4319280" cy="688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step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"/>
          <p:cNvSpPr/>
          <p:nvPr/>
        </p:nvSpPr>
        <p:spPr>
          <a:xfrm>
            <a:off x="400536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600360" y="4508640"/>
                <a:ext cx="1440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∇</m:t>
                    </m:r>
                    <m:r>
                      <m:t xml:space="preserve">L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597120" y="5259240"/>
                <a:ext cx="1443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∇</m:t>
                    </m:r>
                    <m:r>
                      <m:t xml:space="preserve">L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3456000" y="1630440"/>
                <a:ext cx="1800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FEE-0559-4DE0-BDF9-31F90082801C}" type="slidenum">
              <a:t>19</a:t>
            </a:fld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82320" y="518760"/>
            <a:ext cx="4537080" cy="647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6696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s Blowing Simulation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 Set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houghts on inverse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D89-62C5-491F-9404-631518236AB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321080" cy="398628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4321080" cy="398628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2104920" y="582480"/>
            <a:ext cx="5340600" cy="621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orm Blowing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789440" y="5605560"/>
            <a:ext cx="395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96720" y="5605560"/>
            <a:ext cx="395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ass-ai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4"/>
          <a:stretch/>
        </p:blipFill>
        <p:spPr>
          <a:xfrm>
            <a:off x="250920" y="1484280"/>
            <a:ext cx="4251240" cy="388620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5"/>
          <a:stretch/>
        </p:blipFill>
        <p:spPr>
          <a:xfrm>
            <a:off x="4789440" y="1484280"/>
            <a:ext cx="4146480" cy="39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DCA-0DC1-4AE3-B631-47327135BE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2060640" y="582480"/>
            <a:ext cx="4905360" cy="708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le Blowing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789440" y="5605560"/>
            <a:ext cx="395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96720" y="5605560"/>
            <a:ext cx="395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ass-ai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392360" cy="401796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3"/>
          <a:stretch/>
        </p:blipFill>
        <p:spPr>
          <a:xfrm>
            <a:off x="4500720" y="1484280"/>
            <a:ext cx="4387680" cy="401328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4"/>
          <a:stretch/>
        </p:blipFill>
        <p:spPr>
          <a:xfrm>
            <a:off x="250920" y="1488960"/>
            <a:ext cx="4133880" cy="401328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5"/>
          <a:stretch/>
        </p:blipFill>
        <p:spPr>
          <a:xfrm>
            <a:off x="4356000" y="1479600"/>
            <a:ext cx="4392720" cy="401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808-DEEA-49C9-B472-5E264E3649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2"/>
          <a:stretch/>
        </p:blipFill>
        <p:spPr>
          <a:xfrm>
            <a:off x="728640" y="2187720"/>
            <a:ext cx="3598920" cy="302724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704880" y="1405080"/>
            <a:ext cx="798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00536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3"/>
          <a:stretch/>
        </p:blipFill>
        <p:spPr>
          <a:xfrm>
            <a:off x="4748040" y="2170080"/>
            <a:ext cx="3597480" cy="3027240"/>
          </a:xfrm>
          <a:prstGeom prst="rect">
            <a:avLst/>
          </a:prstGeom>
          <a:ln w="0">
            <a:noFill/>
          </a:ln>
        </p:spPr>
      </p:pic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389320" y="533160"/>
            <a:ext cx="4319280" cy="688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ulation steps 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F61-03A7-4B32-A17D-F207C73297D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400536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1762200" y="1676520"/>
            <a:ext cx="5619600" cy="449568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389320" y="533160"/>
            <a:ext cx="4319280" cy="688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 steps II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349-3EB8-4BB7-968B-E0306864AFC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400536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2"/>
          <a:stretch/>
        </p:blipFill>
        <p:spPr>
          <a:xfrm>
            <a:off x="1763640" y="1665360"/>
            <a:ext cx="5619960" cy="4495680"/>
          </a:xfrm>
          <a:prstGeom prst="rect">
            <a:avLst/>
          </a:prstGeom>
          <a:ln w="0">
            <a:noFill/>
          </a:ln>
        </p:spPr>
      </p:pic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389320" y="533160"/>
            <a:ext cx="4319280" cy="688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 steps I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416-A443-4A51-825A-34FF856A50A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293920" y="563400"/>
            <a:ext cx="4005360" cy="603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 Conservation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5040360" cy="381312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2050920" y="5589720"/>
            <a:ext cx="50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uler Implicit with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= 1E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3BE-6FC9-4F88-9C79-DD1D19838F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95640" y="1700280"/>
            <a:ext cx="4897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ass Mel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ass Cond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omatic Insp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511200"/>
            <a:ext cx="5256000" cy="79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ss Manufactu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43280" y="2392200"/>
            <a:ext cx="39592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ass For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face Treat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" descr="Bottles Leaving The Mold"/>
          <p:cNvPicPr/>
          <p:nvPr/>
        </p:nvPicPr>
        <p:blipFill>
          <a:blip r:embed="rId2"/>
          <a:stretch/>
        </p:blipFill>
        <p:spPr>
          <a:xfrm>
            <a:off x="6659640" y="2421000"/>
            <a:ext cx="1439640" cy="1352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Annealing Lehr"/>
          <p:cNvPicPr/>
          <p:nvPr/>
        </p:nvPicPr>
        <p:blipFill>
          <a:blip r:embed="rId3"/>
          <a:stretch/>
        </p:blipFill>
        <p:spPr>
          <a:xfrm>
            <a:off x="755640" y="3141720"/>
            <a:ext cx="1441440" cy="1360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Surface Treatment "/>
          <p:cNvPicPr/>
          <p:nvPr/>
        </p:nvPicPr>
        <p:blipFill>
          <a:blip r:embed="rId4"/>
          <a:stretch/>
        </p:blipFill>
        <p:spPr>
          <a:xfrm>
            <a:off x="6659640" y="3860640"/>
            <a:ext cx="1439640" cy="135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Automatic Inspection"/>
          <p:cNvPicPr/>
          <p:nvPr/>
        </p:nvPicPr>
        <p:blipFill>
          <a:blip r:embed="rId5"/>
          <a:stretch/>
        </p:blipFill>
        <p:spPr>
          <a:xfrm>
            <a:off x="755640" y="4581360"/>
            <a:ext cx="1441440" cy="1360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755640" y="1700280"/>
            <a:ext cx="1440000" cy="135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196-8C6E-451A-A503-3BDC828F6516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-0.19496 -3.33333E-006 E">
                                      <p:cBhvr>
                                        <p:cTn id="82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5640" y="581040"/>
            <a:ext cx="4681440" cy="587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ss Form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1700280"/>
            <a:ext cx="30988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-b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w-blo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08360" y="1844640"/>
            <a:ext cx="4897440" cy="36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E15-079A-4E35-B5F5-C7C10B632D4B}" type="slidenum">
              <a:t>4</a:t>
            </a:fld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32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63640" y="3917880"/>
            <a:ext cx="2160720" cy="1992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63640" y="1441440"/>
            <a:ext cx="3227400" cy="1973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5960" y="583920"/>
            <a:ext cx="5305320" cy="579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w-Blow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19120" y="1531800"/>
            <a:ext cx="1725480" cy="576360"/>
            <a:chOff x="519120" y="1531800"/>
            <a:chExt cx="1725480" cy="576360"/>
          </a:xfrm>
        </p:grpSpPr>
        <p:sp>
          <p:nvSpPr>
            <p:cNvPr id="68" name=""/>
            <p:cNvSpPr/>
            <p:nvPr/>
          </p:nvSpPr>
          <p:spPr>
            <a:xfrm>
              <a:off x="519120" y="1531800"/>
              <a:ext cx="82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g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80960" y="1820880"/>
              <a:ext cx="86364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03640" y="2108160"/>
            <a:ext cx="1518840" cy="398880"/>
            <a:chOff x="503640" y="2108160"/>
            <a:chExt cx="1518840" cy="398880"/>
          </a:xfrm>
        </p:grpSpPr>
        <p:sp>
          <p:nvSpPr>
            <p:cNvPr id="71" name=""/>
            <p:cNvSpPr/>
            <p:nvPr/>
          </p:nvSpPr>
          <p:spPr>
            <a:xfrm>
              <a:off x="503640" y="2108160"/>
              <a:ext cx="99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ou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17760" y="239688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504000" y="39178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040" y="454500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9200" y="517536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4148280"/>
            <a:ext cx="835200" cy="18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20800" y="4761000"/>
            <a:ext cx="425520" cy="11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88960" y="5391000"/>
            <a:ext cx="505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04000" y="2701800"/>
            <a:ext cx="1518480" cy="398880"/>
            <a:chOff x="504000" y="2701800"/>
            <a:chExt cx="1518480" cy="398880"/>
          </a:xfrm>
        </p:grpSpPr>
        <p:sp>
          <p:nvSpPr>
            <p:cNvPr id="80" name=""/>
            <p:cNvSpPr/>
            <p:nvPr/>
          </p:nvSpPr>
          <p:spPr>
            <a:xfrm>
              <a:off x="504000" y="27018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30480" y="2919240"/>
              <a:ext cx="79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267080" y="49449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991040" y="1600200"/>
            <a:ext cx="3214800" cy="2411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991040" y="3436920"/>
            <a:ext cx="3214800" cy="24112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5506920" y="4329000"/>
            <a:ext cx="2376360" cy="1242720"/>
            <a:chOff x="5506920" y="4329000"/>
            <a:chExt cx="2376360" cy="1242720"/>
          </a:xfrm>
        </p:grpSpPr>
        <p:pic>
          <p:nvPicPr>
            <p:cNvPr id="86" name="" descr=""/>
            <p:cNvPicPr/>
            <p:nvPr/>
          </p:nvPicPr>
          <p:blipFill>
            <a:blip r:embed="rId6"/>
            <a:stretch/>
          </p:blipFill>
          <p:spPr>
            <a:xfrm>
              <a:off x="6522480" y="4335840"/>
              <a:ext cx="136080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7"/>
            <a:stretch/>
          </p:blipFill>
          <p:spPr>
            <a:xfrm>
              <a:off x="5506920" y="4329000"/>
              <a:ext cx="1015560" cy="122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367080" y="1281240"/>
            <a:ext cx="0" cy="82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468680" y="2504880"/>
            <a:ext cx="0" cy="82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86160" y="3941640"/>
            <a:ext cx="0" cy="82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4E8-7F5A-46D4-B837-BB3A2903EC8F}" type="slidenum">
              <a:t>5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mediacall" presetID="2">
                                  <p:stCondLst>
                                    <p:cond delay="500"/>
                                  </p:stCondLst>
                                  <p:childTnLst>
                                    <p:cmd type="call" cmd="togglePause">
                                      <p:cBhvr>
                                        <p:cTn id="145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2222E-006 2.59259E-006 L 2.22222E-006 0.27338 E">
                                      <p:cBhvr>
                                        <p:cTn id="14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19 -0.01157 L -0.46702 -0.01157 E">
                                      <p:cBhvr>
                                        <p:cTn id="15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549360"/>
            <a:ext cx="3097080" cy="722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w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04720"/>
            <a:ext cx="813744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of glass and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s flow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2098800" indent="-417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ous forces domin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2098800" indent="-417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 dependent glass visco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exchange in glass and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ction diffus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2098800" indent="-417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viscous dissip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 of glass-air inte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ction problem for level 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659640" y="5068800"/>
            <a:ext cx="2089080" cy="81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896000" y="3417840"/>
            <a:ext cx="3852720" cy="83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726160" y="1511280"/>
            <a:ext cx="3022560" cy="10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5C4-58BA-4193-A8F9-1D1B3D474DC3}" type="slidenum">
              <a:t>6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50920" y="549360"/>
            <a:ext cx="4189680" cy="722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Se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05160" y="1413000"/>
            <a:ext cx="2529000" cy="98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99" name=""/>
          <p:cNvGrpSpPr/>
          <p:nvPr/>
        </p:nvGrpSpPr>
        <p:grpSpPr>
          <a:xfrm>
            <a:off x="6094440" y="1308240"/>
            <a:ext cx="2652480" cy="4741560"/>
            <a:chOff x="6094440" y="1308240"/>
            <a:chExt cx="2652480" cy="4741560"/>
          </a:xfrm>
        </p:grpSpPr>
        <p:grpSp>
          <p:nvGrpSpPr>
            <p:cNvPr id="100" name=""/>
            <p:cNvGrpSpPr/>
            <p:nvPr/>
          </p:nvGrpSpPr>
          <p:grpSpPr>
            <a:xfrm>
              <a:off x="6240240" y="1434960"/>
              <a:ext cx="2237400" cy="4614840"/>
              <a:chOff x="6240240" y="1434960"/>
              <a:chExt cx="2237400" cy="4614840"/>
            </a:xfrm>
          </p:grpSpPr>
          <p:sp>
            <p:nvSpPr>
              <p:cNvPr id="101" name=""/>
              <p:cNvSpPr/>
              <p:nvPr/>
            </p:nvSpPr>
            <p:spPr>
              <a:xfrm>
                <a:off x="6240240" y="1492200"/>
                <a:ext cx="1633680" cy="4519800"/>
              </a:xfrm>
              <a:custGeom>
                <a:avLst/>
                <a:gdLst/>
                <a:ahLst/>
                <a:rect l="l" t="t" r="r" b="b"/>
                <a:pathLst>
                  <a:path w="793" h="2714">
                    <a:moveTo>
                      <a:pt x="0" y="2586"/>
                    </a:moveTo>
                    <a:cubicBezTo>
                      <a:pt x="283" y="2650"/>
                      <a:pt x="567" y="2714"/>
                      <a:pt x="680" y="2540"/>
                    </a:cubicBezTo>
                    <a:cubicBezTo>
                      <a:pt x="793" y="2366"/>
                      <a:pt x="695" y="1965"/>
                      <a:pt x="680" y="1542"/>
                    </a:cubicBezTo>
                    <a:cubicBezTo>
                      <a:pt x="665" y="1119"/>
                      <a:pt x="605" y="257"/>
                      <a:pt x="590" y="0"/>
                    </a:cubicBez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48160" y="1434960"/>
                <a:ext cx="1582920" cy="4577040"/>
              </a:xfrm>
              <a:custGeom>
                <a:avLst/>
                <a:gdLst/>
                <a:ahLst/>
                <a:rect l="l" t="t" r="r" b="b"/>
                <a:pathLst>
                  <a:path w="793" h="2714">
                    <a:moveTo>
                      <a:pt x="0" y="2586"/>
                    </a:moveTo>
                    <a:cubicBezTo>
                      <a:pt x="283" y="2650"/>
                      <a:pt x="567" y="2714"/>
                      <a:pt x="680" y="2540"/>
                    </a:cubicBezTo>
                    <a:cubicBezTo>
                      <a:pt x="793" y="2366"/>
                      <a:pt x="695" y="1965"/>
                      <a:pt x="680" y="1542"/>
                    </a:cubicBezTo>
                    <a:cubicBezTo>
                      <a:pt x="665" y="1119"/>
                      <a:pt x="605" y="257"/>
                      <a:pt x="590" y="0"/>
                    </a:cubicBez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248160" y="1434960"/>
                <a:ext cx="1222560" cy="4186440"/>
              </a:xfrm>
              <a:custGeom>
                <a:avLst/>
                <a:gdLst/>
                <a:ahLst/>
                <a:rect l="l" t="t" r="r" b="b"/>
                <a:pathLst>
                  <a:path w="483" h="2336">
                    <a:moveTo>
                      <a:pt x="0" y="2314"/>
                    </a:moveTo>
                    <a:cubicBezTo>
                      <a:pt x="166" y="2325"/>
                      <a:pt x="333" y="2336"/>
                      <a:pt x="408" y="2041"/>
                    </a:cubicBezTo>
                    <a:cubicBezTo>
                      <a:pt x="483" y="1746"/>
                      <a:pt x="453" y="884"/>
                      <a:pt x="453" y="544"/>
                    </a:cubicBezTo>
                    <a:cubicBezTo>
                      <a:pt x="453" y="204"/>
                      <a:pt x="416" y="91"/>
                      <a:pt x="408" y="0"/>
                    </a:cubicBez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196040" y="1434960"/>
                <a:ext cx="415800" cy="21592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248160" y="1434960"/>
                <a:ext cx="1041480" cy="4013280"/>
              </a:xfrm>
              <a:custGeom>
                <a:avLst/>
                <a:gdLst/>
                <a:ahLst/>
                <a:rect l="l" t="t" r="r" b="b"/>
                <a:pathLst>
                  <a:path w="483" h="2336">
                    <a:moveTo>
                      <a:pt x="0" y="2314"/>
                    </a:moveTo>
                    <a:cubicBezTo>
                      <a:pt x="166" y="2325"/>
                      <a:pt x="333" y="2336"/>
                      <a:pt x="408" y="2041"/>
                    </a:cubicBezTo>
                    <a:cubicBezTo>
                      <a:pt x="483" y="1746"/>
                      <a:pt x="453" y="884"/>
                      <a:pt x="453" y="544"/>
                    </a:cubicBezTo>
                    <a:cubicBezTo>
                      <a:pt x="453" y="204"/>
                      <a:pt x="416" y="91"/>
                      <a:pt x="408" y="0"/>
                    </a:cubicBez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48160" y="1434960"/>
                <a:ext cx="1009800" cy="3972240"/>
              </a:xfrm>
              <a:custGeom>
                <a:avLst/>
                <a:gdLst/>
                <a:ahLst/>
                <a:rect l="l" t="t" r="r" b="b"/>
                <a:pathLst>
                  <a:path w="483" h="2336">
                    <a:moveTo>
                      <a:pt x="0" y="2314"/>
                    </a:moveTo>
                    <a:cubicBezTo>
                      <a:pt x="166" y="2325"/>
                      <a:pt x="333" y="2336"/>
                      <a:pt x="408" y="2041"/>
                    </a:cubicBezTo>
                    <a:cubicBezTo>
                      <a:pt x="483" y="1746"/>
                      <a:pt x="453" y="884"/>
                      <a:pt x="453" y="544"/>
                    </a:cubicBezTo>
                    <a:cubicBezTo>
                      <a:pt x="453" y="204"/>
                      <a:pt x="416" y="91"/>
                      <a:pt x="40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248160" y="1492200"/>
                <a:ext cx="1090800" cy="4013280"/>
              </a:xfrm>
              <a:custGeom>
                <a:avLst/>
                <a:gdLst/>
                <a:ahLst/>
                <a:rect l="l" t="t" r="r" b="b"/>
                <a:pathLst>
                  <a:path w="483" h="2336">
                    <a:moveTo>
                      <a:pt x="0" y="2314"/>
                    </a:moveTo>
                    <a:cubicBezTo>
                      <a:pt x="166" y="2325"/>
                      <a:pt x="333" y="2336"/>
                      <a:pt x="408" y="2041"/>
                    </a:cubicBezTo>
                    <a:cubicBezTo>
                      <a:pt x="483" y="1746"/>
                      <a:pt x="453" y="884"/>
                      <a:pt x="453" y="544"/>
                    </a:cubicBezTo>
                    <a:cubicBezTo>
                      <a:pt x="453" y="204"/>
                      <a:pt x="416" y="91"/>
                      <a:pt x="408" y="0"/>
                    </a:cubicBez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48160" y="1434960"/>
                <a:ext cx="1173240" cy="4129200"/>
              </a:xfrm>
              <a:custGeom>
                <a:avLst/>
                <a:gdLst/>
                <a:ahLst/>
                <a:rect l="l" t="t" r="r" b="b"/>
                <a:pathLst>
                  <a:path w="483" h="2336">
                    <a:moveTo>
                      <a:pt x="0" y="2314"/>
                    </a:moveTo>
                    <a:cubicBezTo>
                      <a:pt x="166" y="2325"/>
                      <a:pt x="333" y="2336"/>
                      <a:pt x="408" y="2041"/>
                    </a:cubicBezTo>
                    <a:cubicBezTo>
                      <a:pt x="483" y="1746"/>
                      <a:pt x="453" y="884"/>
                      <a:pt x="453" y="544"/>
                    </a:cubicBezTo>
                    <a:cubicBezTo>
                      <a:pt x="453" y="204"/>
                      <a:pt x="416" y="91"/>
                      <a:pt x="408" y="0"/>
                    </a:cubicBez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48160" y="1434960"/>
                <a:ext cx="1270080" cy="4165920"/>
              </a:xfrm>
              <a:custGeom>
                <a:avLst/>
                <a:gdLst/>
                <a:ahLst/>
                <a:rect l="l" t="t" r="r" b="b"/>
                <a:pathLst>
                  <a:path w="483" h="2336">
                    <a:moveTo>
                      <a:pt x="0" y="2314"/>
                    </a:moveTo>
                    <a:cubicBezTo>
                      <a:pt x="166" y="2325"/>
                      <a:pt x="333" y="2336"/>
                      <a:pt x="408" y="2041"/>
                    </a:cubicBezTo>
                    <a:cubicBezTo>
                      <a:pt x="483" y="1746"/>
                      <a:pt x="453" y="884"/>
                      <a:pt x="453" y="544"/>
                    </a:cubicBezTo>
                    <a:cubicBezTo>
                      <a:pt x="453" y="204"/>
                      <a:pt x="416" y="91"/>
                      <a:pt x="408" y="0"/>
                    </a:cubicBez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248160" y="1434960"/>
                <a:ext cx="1316160" cy="4224600"/>
              </a:xfrm>
              <a:custGeom>
                <a:avLst/>
                <a:gdLst/>
                <a:ahLst/>
                <a:rect l="l" t="t" r="r" b="b"/>
                <a:pathLst>
                  <a:path w="483" h="2336">
                    <a:moveTo>
                      <a:pt x="0" y="2314"/>
                    </a:moveTo>
                    <a:cubicBezTo>
                      <a:pt x="166" y="2325"/>
                      <a:pt x="333" y="2336"/>
                      <a:pt x="408" y="2041"/>
                    </a:cubicBezTo>
                    <a:cubicBezTo>
                      <a:pt x="483" y="1746"/>
                      <a:pt x="453" y="884"/>
                      <a:pt x="453" y="544"/>
                    </a:cubicBezTo>
                    <a:cubicBezTo>
                      <a:pt x="453" y="204"/>
                      <a:pt x="416" y="91"/>
                      <a:pt x="408" y="0"/>
                    </a:cubicBez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294240" y="1434960"/>
                <a:ext cx="1503360" cy="4534200"/>
              </a:xfrm>
              <a:custGeom>
                <a:avLst/>
                <a:gdLst/>
                <a:ahLst/>
                <a:rect l="l" t="t" r="r" b="b"/>
                <a:pathLst>
                  <a:path w="793" h="2714">
                    <a:moveTo>
                      <a:pt x="0" y="2586"/>
                    </a:moveTo>
                    <a:cubicBezTo>
                      <a:pt x="283" y="2650"/>
                      <a:pt x="567" y="2714"/>
                      <a:pt x="680" y="2540"/>
                    </a:cubicBezTo>
                    <a:cubicBezTo>
                      <a:pt x="793" y="2366"/>
                      <a:pt x="695" y="1965"/>
                      <a:pt x="680" y="1542"/>
                    </a:cubicBezTo>
                    <a:cubicBezTo>
                      <a:pt x="665" y="1119"/>
                      <a:pt x="605" y="257"/>
                      <a:pt x="590" y="0"/>
                    </a:cubicBez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248160" y="1434960"/>
                <a:ext cx="1503360" cy="4475160"/>
              </a:xfrm>
              <a:custGeom>
                <a:avLst/>
                <a:gdLst/>
                <a:ahLst/>
                <a:rect l="l" t="t" r="r" b="b"/>
                <a:pathLst>
                  <a:path w="793" h="2714">
                    <a:moveTo>
                      <a:pt x="0" y="2586"/>
                    </a:moveTo>
                    <a:cubicBezTo>
                      <a:pt x="283" y="2650"/>
                      <a:pt x="567" y="2714"/>
                      <a:pt x="680" y="2540"/>
                    </a:cubicBezTo>
                    <a:cubicBezTo>
                      <a:pt x="793" y="2366"/>
                      <a:pt x="695" y="1965"/>
                      <a:pt x="680" y="1542"/>
                    </a:cubicBezTo>
                    <a:cubicBezTo>
                      <a:pt x="665" y="1119"/>
                      <a:pt x="605" y="257"/>
                      <a:pt x="590" y="0"/>
                    </a:cubicBez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21400" y="4254480"/>
                <a:ext cx="190440" cy="1309680"/>
              </a:xfrm>
              <a:prstGeom prst="ellipse">
                <a:avLst/>
              </a:prstGeom>
              <a:solidFill>
                <a:srgbClr val="ff6600"/>
              </a:solidFill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96040" y="5407200"/>
                <a:ext cx="1315800" cy="377640"/>
              </a:xfrm>
              <a:prstGeom prst="ellipse">
                <a:avLst/>
              </a:prstGeom>
              <a:solidFill>
                <a:srgbClr val="ff6600"/>
              </a:solidFill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96040" y="5137200"/>
                <a:ext cx="368280" cy="4269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276960" y="5391000"/>
                <a:ext cx="1440" cy="41760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48520" y="1434960"/>
                <a:ext cx="3222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727680" y="5292720"/>
                <a:ext cx="83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la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985880" y="3594240"/>
                <a:ext cx="4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i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374520" y="3613320"/>
                <a:ext cx="4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i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294240" y="1434960"/>
                <a:ext cx="1090800" cy="4070520"/>
              </a:xfrm>
              <a:custGeom>
                <a:avLst/>
                <a:gdLst/>
                <a:ahLst/>
                <a:rect l="l" t="t" r="r" b="b"/>
                <a:pathLst>
                  <a:path w="483" h="2336">
                    <a:moveTo>
                      <a:pt x="0" y="2314"/>
                    </a:moveTo>
                    <a:cubicBezTo>
                      <a:pt x="166" y="2325"/>
                      <a:pt x="333" y="2336"/>
                      <a:pt x="408" y="2041"/>
                    </a:cubicBezTo>
                    <a:cubicBezTo>
                      <a:pt x="483" y="1746"/>
                      <a:pt x="453" y="884"/>
                      <a:pt x="453" y="544"/>
                    </a:cubicBezTo>
                    <a:cubicBezTo>
                      <a:pt x="453" y="204"/>
                      <a:pt x="416" y="91"/>
                      <a:pt x="408" y="0"/>
                    </a:cubicBez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48160" y="1434960"/>
                <a:ext cx="1659240" cy="4614840"/>
              </a:xfrm>
              <a:custGeom>
                <a:avLst/>
                <a:gdLst/>
                <a:ahLst/>
                <a:rect l="l" t="t" r="r" b="b"/>
                <a:pathLst>
                  <a:path w="793" h="2714">
                    <a:moveTo>
                      <a:pt x="0" y="2586"/>
                    </a:moveTo>
                    <a:cubicBezTo>
                      <a:pt x="283" y="2650"/>
                      <a:pt x="567" y="2714"/>
                      <a:pt x="680" y="2540"/>
                    </a:cubicBezTo>
                    <a:cubicBezTo>
                      <a:pt x="793" y="2366"/>
                      <a:pt x="695" y="1965"/>
                      <a:pt x="680" y="1542"/>
                    </a:cubicBezTo>
                    <a:cubicBezTo>
                      <a:pt x="665" y="1119"/>
                      <a:pt x="605" y="257"/>
                      <a:pt x="590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978600" y="4952880"/>
              <a:ext cx="88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θ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62760" y="4070520"/>
              <a:ext cx="88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θ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440" y="4070520"/>
              <a:ext cx="88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θ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97600" y="1308240"/>
              <a:ext cx="8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θ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518240" y="1630440"/>
              <a:ext cx="42552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7148520" y="1492200"/>
              <a:ext cx="75888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48760" y="2657160"/>
            <a:ext cx="58453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level set f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361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itially defined as signed distance fun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995640" y="3699000"/>
            <a:ext cx="1727280" cy="625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C4A-22BC-4D2F-9081-B427F54DD1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3010800">
            <a:off x="780840" y="1711080"/>
            <a:ext cx="7669080" cy="4789440"/>
          </a:xfrm>
          <a:prstGeom prst="parallelogram">
            <a:avLst>
              <a:gd name="adj" fmla="val 845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2276640"/>
            <a:ext cx="1224000" cy="19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511280" y="1787400"/>
            <a:ext cx="4821840" cy="2901960"/>
            <a:chOff x="1511280" y="1787400"/>
            <a:chExt cx="4821840" cy="2901960"/>
          </a:xfrm>
        </p:grpSpPr>
        <p:sp>
          <p:nvSpPr>
            <p:cNvPr id="134" name=""/>
            <p:cNvSpPr/>
            <p:nvPr/>
          </p:nvSpPr>
          <p:spPr>
            <a:xfrm>
              <a:off x="1551960" y="1787400"/>
              <a:ext cx="4779720" cy="682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11280" y="2117160"/>
              <a:ext cx="1393560" cy="142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440680" y="2186280"/>
              <a:ext cx="892440" cy="136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86760" y="3230640"/>
              <a:ext cx="2731680" cy="379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03040" y="3564720"/>
              <a:ext cx="1062360" cy="1124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713840" y="3518280"/>
              <a:ext cx="726840" cy="1124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596960" y="2206800"/>
            <a:ext cx="0" cy="1334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52680" y="3454560"/>
            <a:ext cx="1176120" cy="140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14840" y="3614760"/>
            <a:ext cx="2076480" cy="754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64400" y="4309920"/>
            <a:ext cx="1030320" cy="439200"/>
          </a:xfrm>
          <a:prstGeom prst="rect">
            <a:avLst/>
          </a:prstGeom>
          <a:solidFill>
            <a:srgbClr val="00cc99">
              <a:alpha val="5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θ</a:t>
            </a:r>
            <a:r>
              <a:rPr b="0" i="1" lang="nl-N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33520" y="3481560"/>
            <a:ext cx="203400" cy="1116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79680" y="2795760"/>
            <a:ext cx="987480" cy="1842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3680" y="4584600"/>
            <a:ext cx="1609920" cy="439200"/>
          </a:xfrm>
          <a:prstGeom prst="rect">
            <a:avLst/>
          </a:prstGeom>
          <a:solidFill>
            <a:srgbClr val="00cc99">
              <a:alpha val="5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θ</a:t>
            </a:r>
            <a:r>
              <a:rPr b="0" i="1" lang="nl-N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64280" y="3178080"/>
            <a:ext cx="888840" cy="49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486400" y="3423960"/>
            <a:ext cx="666720" cy="14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73920" y="1914480"/>
            <a:ext cx="888840" cy="49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296040" y="2160360"/>
            <a:ext cx="666720" cy="14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46240" y="550800"/>
            <a:ext cx="3643560" cy="585000"/>
          </a:xfrm>
          <a:prstGeom prst="rect">
            <a:avLst/>
          </a:prstGeom>
          <a:solidFill>
            <a:srgbClr val="00cc99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vel set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3F6-2E4C-4222-9672-BF525333DF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92360" y="550800"/>
            <a:ext cx="6264360" cy="722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-initialisation by FMM Algorithm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67800" y="2964960"/>
            <a:ext cx="812484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The computed level set function at each time step so th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361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interface does not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9640" indent="-361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of gradient close to 1 within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623880" y="1785960"/>
            <a:ext cx="80265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ction causes gradient to become irregular after so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2720" y="2265480"/>
            <a:ext cx="75042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nce we have to re-initialisise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2320" y="4834080"/>
            <a:ext cx="8026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ast Marching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MM) (re)build the solution outward starting with a narrow band around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583-E351-43EC-9C6F-4933D81F78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7:00Z</dcterms:created>
  <dc:creator>Bob Mattheij</dc:creator>
  <dc:description/>
  <dc:language>en-US</dc:language>
  <cp:lastModifiedBy>mattheij</cp:lastModifiedBy>
  <dcterms:modified xsi:type="dcterms:W3CDTF">2008-09-11T04:46:41Z</dcterms:modified>
  <cp:revision>554</cp:revision>
  <dc:subject/>
  <dc:title>Planning and Progress</dc:title>
</cp:coreProperties>
</file>